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77E-DF0B-4B6A-B133-A4915D6E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59EB-7819-4A8D-BC09-E0C516AA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0C81-B43B-4F6A-B403-D4AA8B68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973B-F832-4625-A58C-3AD91063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FD34-1C3D-4E61-AEE0-12EF5AC1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67D7-A9CB-4F6C-A7C7-26769DA3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1394-0542-4D82-ACBC-0BE79F3A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AA6B-8463-4C2E-B3FE-C3017DE3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EE55-5279-4B3D-AE57-6558F668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4CBB-5D62-41C7-8B4D-50A11110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6E57-E9BC-44D9-B116-F6680035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53DE-BCFB-45B1-920C-9B454EDA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EAEB-564C-420E-9D1C-C7137080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C3A0-2597-4DCB-9E31-7D86A49C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7C4E-C363-4885-BC25-545273D3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65E5-574C-4563-887F-FE743158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67F6-26BD-44E3-B948-866E4952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13E2-8004-4A5F-B937-884BEE2D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A198-DB86-44CD-9E09-FA5AD232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0260-E5E4-4E0A-8F67-5ACA1E04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ED30-5422-45FA-9B31-34C12CFF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A73C-254C-4956-ABF9-BC70B7AF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0BF3-51CA-4DE7-BD65-619D7609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B9CB-883B-4CB8-A40C-C056E0B0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FF1A-0831-4EF4-8CF7-876B2ECD063A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54F1-F149-4FEA-87B8-A299B8AD0BDE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676520" y="28195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han Raj Pradh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. Lib. Inf. Sc., MBA, Ph. 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r, Dept. of Library &amp; Inf. S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bhuva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mandu, NE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70160" y="879480"/>
            <a:ext cx="199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447920" y="990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Digital Library Initiative in Nepal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ools Used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 in HTML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D-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WW in HTML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 in HTML format is the most widely used tool for generating information in digital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 to 2003 2500 np domain name has been registe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Databas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widely used software package (99%) for creating database is CDS/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ate only five organizations, namely ICIMOD, HLMC, TU Central Library, NHRC and HELLIS has searchable database in th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D-ROM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D-ROM has become alternative means of accessing information in digital 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ies, INGO and NGO such as Tribhuvan University, UNICEF, HealthNet Nepal, etc have produced their information in CD-ROM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Establishment of Locally Generated Digital Librari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making accessible Nepalese newspapers, journals and scientific journals, WWW is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Establishment of Locally Generated Digital Librari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tions involved in establishing locally generated digital libra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lthNet Ne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Nepalese Medical jou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otated health science bibliography of Ne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s and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Establishment of Locally Generated Digital Librari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cantile Communication Pvt. Lt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ine news services about Nepal from different newspapers and journals published from Nepal are ho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Establishment of Locally Generated Digital Librari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me for Enhancement of Research Information (PERI), INASP, UK is planning to provide support for publishers of scientific journal of Ne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Provision of Foreign Research Digital Librari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NARI is supported by WH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nitiative provides free access to 1500 medical jou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Establishment of Locally Generated Digital Librari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SP, UK initi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nitiative provides 10,700 full text online journals, current awareness databases free of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blishers joined in this initiative are Blackwell, EBSCO, Emrald, Cochrane Library and Oxford University p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ountry Background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uated in South A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al is an elongated, rectangular country, with an area of approximately 147’181 square kilo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politically, the nation lies between India and China, and is land lock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vely, Nepal is divided into five development regions and 75 distric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elecentr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lleviate the poverty and meeting the information needs 15 telecentres will be establ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cus will be on information related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ps, fertilizers, plant diseases, veterinary services, human diseases, family planning, terrorism, sanitation techniq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ntegration of Conventional and Digital Librari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Nepal, only a portion of library has been digit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ntional library still is important to meet the information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allenge is bringing a range of technologies and services together for creating an interlibrary loan and document delivery service meeting the requirement of users and the libraria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ountry Background.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vely, Nepal is divided into five development regions and 75 districts. The lowest administrative division is the Village Development Committee (VDC) of which there are 399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he Internet in Nepal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net in Nepal was first introduced in 1994 through dial-up connection (via uucp) and Fidon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al started Internet in  mid-July 1995, when it established an on-line International link via NTC to Singapore Telecom through commercial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Digital Library Initiatives.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205740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rvation of manuscripts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ment of locally generated digital Libraries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sion of foreign research digital Librari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Digital Library Initiatives.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centr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ion of conventional and digital Libra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Preservation of Manuscripts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ization of manuscripts was done with German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ed Nepal-German Manuscript Preservation Project in 1970 (NGMP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GMPP has microfilms more than 180,000 manuscri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Preservation of Manuscript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ed  preliminary list of Microfilmed by the NGMP in June 2003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Locally generated Digital Librari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&amp; D projects report their results in limited qua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t Nepal’s development efforts, experiences and prio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08:35:51Z</dcterms:created>
  <dc:creator>Mridul Chapagain</dc:creator>
  <dc:description/>
  <dc:language>en-US</dc:language>
  <cp:lastModifiedBy>Mridul Chapagain</cp:lastModifiedBy>
  <dcterms:modified xsi:type="dcterms:W3CDTF">2004-02-23T12:12:43Z</dcterms:modified>
  <cp:revision>4</cp:revision>
  <dc:subject/>
  <dc:title>PowerPoint Presentation</dc:title>
</cp:coreProperties>
</file>